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52C-BD57-4E41-B2E2-A465EAD9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83C-D2FB-47B0-B405-CDEA0923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39E-D021-477E-8A4F-138220CA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9C7-B798-4159-ABED-6BD232DA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C78-8874-4EC2-BB09-3D6FF2C6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261-922D-44A7-888A-397AD16B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986-147F-425C-AE77-F43BA4CC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449-7A00-4B93-A762-4EAD4E64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79D-2284-431E-A2A0-9E0AB6B0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1EB-C6FF-4F1A-8E65-F6312016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7C4-4631-4333-B628-385167EF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7CC-FCA6-4EB1-833C-9CD9806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50D-B935-4DD4-9686-DC18AB717266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740" y="1872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485520" y="10398600"/>
            <a:ext cx="19475640" cy="16499880"/>
            <a:chOff x="12485520" y="10398600"/>
            <a:chExt cx="19475640" cy="1649988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858560"/>
              <a:ext cx="3813480" cy="353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14462280" y="10398600"/>
              <a:ext cx="17498880" cy="16499880"/>
              <a:chOff x="14462280" y="10398600"/>
              <a:chExt cx="17498880" cy="1649988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436480"/>
                <a:ext cx="11141280" cy="154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508320" y="19964520"/>
                <a:ext cx="4452840" cy="49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34872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20944800">
                <a:off x="25795440" y="23850720"/>
                <a:ext cx="361764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19916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07960"/>
                <a:ext cx="5529240" cy="9079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33612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0984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132400"/>
                <a:ext cx="361656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1061388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86660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0692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360" y="1691964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 flipV="1">
                <a:off x="26669880" y="24383880"/>
                <a:ext cx="1905120" cy="4003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82848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110276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34720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03000"/>
                <a:ext cx="1979640" cy="6811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670600"/>
                <a:ext cx="2349360" cy="20304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05608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197576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009800" y="723960"/>
            <a:ext cx="6362280" cy="4724280"/>
            <a:chOff x="100980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272700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193860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446688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20112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38256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00980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496872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455292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13872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07176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30720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38712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80572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24928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264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152388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0934640"/>
            <a:ext cx="11810880" cy="6229440"/>
            <a:chOff x="31775400" y="1093464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093464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65824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04928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14432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097748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68236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06060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13028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191096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274868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06836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3604200" y="25526880"/>
            <a:ext cx="85597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533520" y="775332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ge’s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al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149353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22974480"/>
            <a:ext cx="12725640" cy="84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&amp; equipment should be integrated with the proces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quipment shoul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33299280" y="4952880"/>
            <a:ext cx="9982440" cy="57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4"/>
          <p:cNvSpPr/>
          <p:nvPr/>
        </p:nvSpPr>
        <p:spPr>
          <a:xfrm>
            <a:off x="305560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4" descr=""/>
          <p:cNvPicPr/>
          <p:nvPr/>
        </p:nvPicPr>
        <p:blipFill>
          <a:blip r:embed="rId14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3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9"/>
          <p:cNvSpPr/>
          <p:nvPr/>
        </p:nvSpPr>
        <p:spPr>
          <a:xfrm>
            <a:off x="34366320" y="17232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1"/>
          <p:cNvSpPr/>
          <p:nvPr/>
        </p:nvSpPr>
        <p:spPr>
          <a:xfrm>
            <a:off x="38099880" y="17430840"/>
            <a:ext cx="53352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3"/>
          <p:cNvSpPr/>
          <p:nvPr/>
        </p:nvSpPr>
        <p:spPr>
          <a:xfrm>
            <a:off x="32994720" y="17983080"/>
            <a:ext cx="9982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9"/>
          <p:cNvSpPr/>
          <p:nvPr/>
        </p:nvSpPr>
        <p:spPr>
          <a:xfrm>
            <a:off x="37814400" y="17232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1"/>
          <p:cNvSpPr/>
          <p:nvPr/>
        </p:nvSpPr>
        <p:spPr>
          <a:xfrm>
            <a:off x="34670880" y="1743084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3"/>
          <p:cNvSpPr/>
          <p:nvPr/>
        </p:nvSpPr>
        <p:spPr>
          <a:xfrm>
            <a:off x="32156280" y="31470480"/>
            <a:ext cx="117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mote Monitoring of the Pat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rcRect l="1199" t="0" r="3594" b="0"/>
          <a:stretch/>
        </p:blipFill>
        <p:spPr>
          <a:xfrm>
            <a:off x="31775400" y="19243800"/>
            <a:ext cx="12115800" cy="7502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547960" y="4457880"/>
            <a:ext cx="2286000" cy="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5T03:33:45Z</dcterms:modified>
  <cp:revision>54</cp:revision>
  <dc:subject/>
  <dc:title>Slide 1</dc:title>
</cp:coreProperties>
</file>